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815-6C10-417C-B4EC-6A385546CC1D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4B8-BF62-4E25-AF4C-73B30A600836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43B-6311-461A-8136-B6EF16D1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BDA-BB9E-4CD5-AB4F-F25E140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A75-50F8-430E-97C6-5F6A8CF9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7C6-F3EE-40A3-B369-D7843A6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141-9592-4143-BDD1-FAB00205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E97C-AE77-4C08-92EF-75EA595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42E8-6DF1-4726-9FC5-F3732D1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C584-76BA-4050-828B-C8896C6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736A-B6C3-4628-A136-F3C995C8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1834-087B-4199-B03A-C050E4D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A10-502B-428D-84B1-02214A1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B72-8F0C-4A0D-B408-8D1B04FB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438-F93A-4A37-8F58-1621F69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32CE-6D5D-4A62-AB1A-0B89E9B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2350-3AE3-4294-8DB0-A8C106A6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0EB2-472B-42C5-85FC-BFF9C536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BB1-3EF1-48B5-A008-352AA820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551-9E1F-458C-8568-0C5C2B6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F89-7609-4412-9FA7-2DA7494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087-EBD2-416E-8789-85414E8B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0CB-9E29-4031-8910-3C75859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F57-7EA7-4C55-9E61-238DB9A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2CF-7B73-4966-B69E-523DFE2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5A1-1C59-4702-AE7D-B85B239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A3A3-BAEC-4D59-9CB8-4345D3B383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1B38-8AD1-4CA7-9FB5-E9EE2DEF9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АПУЛОЗНЕ ДЕРМАТО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ОМИНАНТНА  -  ПАП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ЕРМАЛН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О-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регуларна хипергранул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сеудоакан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генерација ћелија базалног сло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поласте папиле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мфоцитни инфилтрат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 и 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oriasis 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simplex chronicus –W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л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ално: КС-под оклузиј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UVA-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oр циклoспoрина –испирање букал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ОПШТА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С,Ретиноиди,Циклоспорин,Транкилизан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TROPHULUS  INFANT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УРИГИНОЗ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-комарци и бу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минантна промена серо-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.-руке и ноге,ређе дланови и таб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ти,деца, од 2-6-те године 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ет папулозног осипа- траје нек.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и импет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Заштит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нсеката –де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Б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2 % раствор еоз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нтипруритик: 1 % ментол у миксту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Molluscum 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онтагиозна –вирусна бол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Многобројне умбиликоване папуле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6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Три клиничка обл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д деце,као венерично обољење и код имуносупримира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648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VERRUCAE  PLANAE JUVENIL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ЕЧИЈИ УЗРА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АДОЛЕСЦЕНТИ – РЕЂ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Х.П.В. ТИП 3  и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АПУЛЕ : 1-5 м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оја  нормалне коже или беле каф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остоје и скваме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ок:  лице и дорзум ш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Dg: molluscum contagio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ЕЧЕЊЕ :спон. регресија,криотерапија,кирет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1752480" y="2571840"/>
            <a:ext cx="52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.Dg. 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errrucae planae juven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ystae sebac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apillomata acumi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moll.conta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онтана рег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иретажа оштром каши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лектрокоаг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зикулозне 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етикулар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генeрација епидерм.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алонскa дегенeрација епидерм.ћe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тиопатогенеза :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 херпес вирусим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двочлани ДНА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 -1  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зазивач орофацијалн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изазивач гениталног обл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ри фазе боле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о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т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мултипл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7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носи се директним контактом и секре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разни примоафект 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циденција вис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мар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 детињст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кубациј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блици од инапарентних до врло тешк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ингивостоматитис и кератоконјуктив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лтипле болне везик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озије и плитке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лузокожа усне дупље, фаринкса,коњункт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до 8 дана ток бол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већање регионалних лимф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вобоља са температу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492280"/>
            <a:ext cx="54100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ПИДЕРМО-ДЕРМАЛНА ЗАРАВЊЕНА 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ХРОНИЧНА, РЕЦИДИВАНТНА,Ч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ЈАК ПРУР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ПРОМЕНЕ НА КОЖИ И СЛУЗОКОЖ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циди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пределу примоаф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свраб,пе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 блажа,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8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шће у раној фа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овоцирајућ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omatitis apht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exsudativum multif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emphigus 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траепидермалне шупљи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ген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не пливајуће балон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нуклеарне гигант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дну була  садржај за анали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цитодијагнос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SV-2 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суални пут прен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кубација 2-21 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афект од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симптоматска инфекција или клиничка слика(баланитис,вулв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вагинитис,цервицитис,уретр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Ситне везикуле, болне ерозије, повлаче се за 2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3 недеље,симптоми бла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867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  tabl. a 200 mg.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5 x дневно у току 5 да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траје 10 дана код примоинфекције са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но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рецидива  ефикаснија првог дана од појаве промен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краћује трајање обољ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венција рецидива није мог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код имуносупримираних ос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онатал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aricella-Zoster vir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а локализ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ицијално-везик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Varicella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инфекција у дечјем доб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ганглионима нерава корен.кичм.мож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активација виру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мањенје имунолошке одбране органи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ламација сензитивних нерава –јак бо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 са везику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ле 10 дана кру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станак промена за 3 до 4 неде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уралгије трају 6 месе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величине:  1 – 10 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Wickham-ове стр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ализа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Флексорне ст.доруч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еримал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р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умбал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стале рег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ице поштеђ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intercostaliis u 50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sacr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brah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ophtalmi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trigemi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lumb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DG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игр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ардиј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леур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и абд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акт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улозни импети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bl. Zovirax a 800 mg.dn. 5 x 1/10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тамин 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.z.ophtalm. и H.z.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ком.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virax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се даје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yndroma  PHN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интракутане инекције са кортизоном или лидокаином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__1_0094"/>
          <p:cNvPicPr/>
          <p:nvPr/>
        </p:nvPicPr>
        <p:blipFill>
          <a:blip r:embed="rId1"/>
          <a:stretch/>
        </p:blipFill>
        <p:spPr>
          <a:xfrm>
            <a:off x="91440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__9_0014"/>
          <p:cNvPicPr/>
          <p:nvPr/>
        </p:nvPicPr>
        <p:blipFill>
          <a:blip r:embed="rId1"/>
          <a:stretch/>
        </p:blipFill>
        <p:spPr>
          <a:xfrm>
            <a:off x="91440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__4_0010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__2_0095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__1_0094"/>
          <p:cNvPicPr/>
          <p:nvPr/>
        </p:nvPicPr>
        <p:blipFill>
          <a:blip r:embed="rId1"/>
          <a:stretch/>
        </p:blipFill>
        <p:spPr>
          <a:xfrm>
            <a:off x="83808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ста поја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жина клиничке слике варира од благе до теш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пецифич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огу имитирати или погоршавати мног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и и алергијски егзанте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droma Lyell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а епидермална некролиза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јединачне и моза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ерималео. и претиби. предели – хипертроф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мушкараца –ануларни облик на генит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ебнер-ов феномен –лине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апилицијум- иреверзибилна алопе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-лонгитудиналне браз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40-60 % болесника – пром. на слузоко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Токсични и алергијски егзанте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гли налети генерализован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макул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папулозних промена, симетр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Морбил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Скарлатин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озеол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акулопапулозни егзантем у виду еритематозних уздигнутих папула и плоч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Допунск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еукоцитарна форм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Брис гуше и но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тар А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Титар вирусних анти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диопатски облиц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скључити сумњив 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Локална кортикостероидна терапија и антипруригинозни леков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кш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истемски кортикостероид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теж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јтежи облик медикаментоз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грожава жив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5 do 30%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болесника завршава лет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Хистолошки некроза епителних ћел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длубљивање епидерма и слузокож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јчешћи узрочници су леков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био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го-антипире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ви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диопатски обл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рипозни продроми 2 до 3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 слузокоже (коњуктивитис, ерозија букалне и ан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ениталне слузокож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ожа у почетку макулозна ерупција која подсећа на Е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асније тамно еритематозне болне плаже са млитавим булама и одлубљивањем великог дела епи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172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743720" cy="284652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5" descr=""/>
          <p:cNvPicPr/>
          <p:nvPr/>
        </p:nvPicPr>
        <p:blipFill>
          <a:blip r:embed="rId2"/>
          <a:stretch/>
        </p:blipFill>
        <p:spPr>
          <a:xfrm>
            <a:off x="5067360" y="1828800"/>
            <a:ext cx="4076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Content Placeholder 7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18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Content Placeholder 3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лузокo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а-беличаста мреж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Језик- леукоплак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ерозије и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инг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ђе генитална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одсећа на опарену кож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иколски знак позитив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Опште стање теш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чност, протеини и електролити се губ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уперинфекција и озбиљни хемат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EN-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ецијалне стерилне једин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рола електролита и диуре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баланс течности и електроли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ергична примена антибио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ена К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ена интравенских имуноглобу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fix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Content Placeholder 3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240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76320" y="3851280"/>
            <a:ext cx="4419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79560"/>
            <a:ext cx="60116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izomorfni feno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248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u us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Content Placeholder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047760" cy="2419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ca</cp:lastModifiedBy>
  <dcterms:modified xsi:type="dcterms:W3CDTF">2017-09-28T17:41:3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